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AVISO.WAV" ContentType="audio/x-wav"/>
  <Override PartName="/ppt/media/CLIC.WAV" ContentType="audio/x-wav"/>
  <Override PartName="/ppt/media/DIAPO.WAV" ContentType="audio/x-wav"/>
  <Override PartName="/ppt/media/ARPEGIO.WAV" ContentType="audio/x-wav"/>
  <Override PartName="/ppt/media/image3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FB01-E81D-41F5-9D83-426F6A97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6E3-E719-43D8-BB45-7D11A8A3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5B5-2BB2-4303-A052-0FEBA2DD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655C-337E-4925-80DB-64102850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A85B-70F1-42CC-81A1-E6A13AB7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557-9DE5-4140-B925-8E267BF3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5CA8-2A83-46A1-B7B4-A52B706C4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7E0-CC98-47A1-9C17-53BAF4CA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B3C2-B433-407E-94DA-C9A78F14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5F8-B8BB-4BCE-AF0E-0D7E28ED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E488-F3D5-434E-B318-70A6E3BA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F251-580C-4ECC-9615-F3097E39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50000">
              <a:srgbClr val="ffffff"/>
            </a:gs>
            <a:gs pos="100000">
              <a:srgbClr val="0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A0D1-5EE8-408B-AFD8-C657C6BDE27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RPEGIO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AVISO.WAV"/><Relationship Id="rId3" Type="http://schemas.openxmlformats.org/officeDocument/2006/relationships/audio" Target="../media/AVISO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LIC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audio" Target="../media/AVISO.WAV"/><Relationship Id="rId5" Type="http://schemas.openxmlformats.org/officeDocument/2006/relationships/audio" Target="../media/CLIC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D0DE-1E0B-4391-B19D-A6C080C6B6A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611280" y="2205000"/>
            <a:ext cx="792144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360" y="-360"/>
            <a:ext cx="889344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UNIVERSIDAD RICARDO PALMA</a:t>
            </a:r>
            <a:br>
              <a:rPr sz="3200"/>
            </a:br>
            <a:br>
              <a:rPr sz="1000"/>
            </a:br>
            <a:r>
              <a:rPr b="1" lang="es-MX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Arial Narrow"/>
              </a:rPr>
              <a:t>ESCUELA DE POST GRADO</a:t>
            </a:r>
            <a:br>
              <a:rPr sz="3600"/>
            </a:br>
            <a:br>
              <a:rPr sz="3600"/>
            </a:br>
            <a:br>
              <a:rPr sz="1000"/>
            </a:br>
            <a:br>
              <a:rPr sz="1000"/>
            </a:br>
            <a:r>
              <a:rPr b="1" lang="es-MX" sz="3200" spc="-1" strike="noStrike">
                <a:solidFill>
                  <a:srgbClr val="000099"/>
                </a:solidFill>
                <a:latin typeface="Trebuchet MS"/>
              </a:rPr>
              <a:t>PSICOLOGÍA  EDUCATIVA</a:t>
            </a:r>
            <a:br>
              <a:rPr sz="3200"/>
            </a:b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UNIDAD III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  </a:t>
            </a:r>
            <a:r>
              <a:rPr b="1" lang="es-ES" sz="2800" spc="-1" strike="noStrike">
                <a:solidFill>
                  <a:srgbClr val="a50021"/>
                </a:solidFill>
                <a:latin typeface="Georgia"/>
              </a:rPr>
              <a:t>LOS FUNDAMENTOS DE LAS TEORÍAS</a:t>
            </a:r>
            <a:br>
              <a:rPr sz="2800"/>
            </a:br>
            <a:r>
              <a:rPr b="1" lang="es-ES" sz="2800" spc="-1" strike="noStrike">
                <a:solidFill>
                  <a:srgbClr val="a50021"/>
                </a:solidFill>
                <a:latin typeface="Georgia"/>
              </a:rPr>
              <a:t> DEL APRENDIZAJE</a:t>
            </a: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2800"/>
            </a:b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Profesor: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Dr. José Anicama 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6 Rectángulo"/>
          <p:cNvSpPr/>
          <p:nvPr/>
        </p:nvSpPr>
        <p:spPr>
          <a:xfrm>
            <a:off x="4004280" y="585792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62699"/>
                </a:solidFill>
                <a:latin typeface="Times New Roman"/>
              </a:rPr>
              <a:t>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C06C-4A80-4576-8787-01FB64C01F0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Aprendizaje como PRODUCTO (E - 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3300"/>
                </a:solidFill>
                <a:uFillTx/>
                <a:latin typeface="Times New Roman"/>
              </a:rPr>
              <a:t>Concepto</a:t>
            </a: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395280" y="2421000"/>
            <a:ext cx="8305920" cy="2590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EL APRENDIZAJE ES EL CAMBIO RELA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ESTABLE   EN EL COMPORTAMIENTO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ORGANISMOS QUE TIENE LUGAR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DE LA PRACTICA O DE LA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  <p:sndAc>
      <p:stSnd>
        <p:snd r:embed="rId1" name="ARPEGI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63F2-6965-49F6-AB1F-5CE0CB08CDE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2. Modelo E-O-R: El aprendizaje como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568600" y="1650960"/>
            <a:ext cx="2362320" cy="1081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00"/>
                </a:solidFill>
                <a:latin typeface="Times New Roman"/>
              </a:rPr>
              <a:t>“</a:t>
            </a:r>
            <a:r>
              <a:rPr b="1" lang="es-ES" sz="2600" spc="-1" strike="noStrike">
                <a:solidFill>
                  <a:srgbClr val="003300"/>
                </a:solidFill>
                <a:latin typeface="Times New Roman"/>
              </a:rPr>
              <a:t>O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Tahoma"/>
              </a:rPr>
              <a:t>Procesamiento</a:t>
            </a:r>
            <a:r>
              <a:rPr b="1" lang="es-ES" sz="1500" spc="-1" strike="noStrike">
                <a:solidFill>
                  <a:srgbClr val="003300"/>
                </a:solidFill>
                <a:latin typeface="Tahoma"/>
              </a:rPr>
              <a:t> de Inform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828720" y="1847880"/>
            <a:ext cx="56664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724880" y="1795320"/>
            <a:ext cx="566640" cy="49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228600" y="3424320"/>
            <a:ext cx="27432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Tahoma"/>
              </a:rPr>
              <a:t>Estím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Tahoma"/>
              </a:rPr>
              <a:t>(experiencia educati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172200" y="3367080"/>
            <a:ext cx="2590920" cy="68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Tahoma"/>
              </a:rPr>
              <a:t>Comportamientos abiertos y encubi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2984400" y="2971800"/>
            <a:ext cx="1511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00"/>
                </a:solidFill>
                <a:latin typeface="Tahoma"/>
              </a:rPr>
              <a:t>Orga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5410080" y="914400"/>
            <a:ext cx="2419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Tahoma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39720" y="4840200"/>
            <a:ext cx="9446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Times New Roman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7440480" y="4840200"/>
            <a:ext cx="11336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Tahoma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1490760" y="2090880"/>
            <a:ext cx="944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5079960" y="2090880"/>
            <a:ext cx="2549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8007480" y="228600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8007480" y="4054320"/>
            <a:ext cx="0" cy="689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 flipV="1">
            <a:off x="8007480" y="1206000"/>
            <a:ext cx="0" cy="490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 flipH="1">
            <a:off x="3757320" y="1206360"/>
            <a:ext cx="424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3757680" y="1206360"/>
            <a:ext cx="0" cy="392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>
            <a:off x="1109520" y="228600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0"/>
          <p:cNvSpPr/>
          <p:nvPr/>
        </p:nvSpPr>
        <p:spPr>
          <a:xfrm flipV="1">
            <a:off x="1112760" y="3858840"/>
            <a:ext cx="0" cy="981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1"/>
          <p:cNvSpPr/>
          <p:nvPr/>
        </p:nvSpPr>
        <p:spPr>
          <a:xfrm>
            <a:off x="8007480" y="5234040"/>
            <a:ext cx="0" cy="392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5928840" y="5626080"/>
            <a:ext cx="2078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3"/>
          <p:cNvSpPr/>
          <p:nvPr/>
        </p:nvSpPr>
        <p:spPr>
          <a:xfrm flipH="1">
            <a:off x="1112760" y="5626080"/>
            <a:ext cx="4911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24"/>
          <p:cNvSpPr/>
          <p:nvPr/>
        </p:nvSpPr>
        <p:spPr>
          <a:xfrm flipV="1">
            <a:off x="1112760" y="5135040"/>
            <a:ext cx="0" cy="490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3200400" y="5724360"/>
            <a:ext cx="244620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Tahoma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6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7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Figura N° 5: Modelo de Estudio del Aprendizaje  E-O-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                      </a:t>
            </a: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Revisado por J. Anicama (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  <p:sndAc>
      <p:stSnd>
        <p:snd r:embed="rId2" name="AVISO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VIS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F601-FA9E-4943-A99B-A352904DF61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Aprendizaje como PROCESO (E-O-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3300"/>
                </a:solidFill>
                <a:uFillTx/>
                <a:latin typeface="Times New Roman"/>
              </a:rPr>
              <a:t>Concepto</a:t>
            </a: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95280" y="2276640"/>
            <a:ext cx="8305920" cy="289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EL APRENDIZAJE ES EL PROCESO COMPLEJ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ADQUISICIÓN DE CONOCIMIENTOS, HABILIDAD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DESTREZAS, VALORES, CREENCIAS, ETC.  E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CUAL INTERVIENEN UN CONJUNTO DE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00"/>
                </a:solidFill>
                <a:latin typeface="Times New Roman"/>
              </a:rPr>
              <a:t>AFECTIVOS, COGNITIVOS, SOCIALES Y BI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LIC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DF71-DE94-44E9-A407-7F3D006546F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3300"/>
                </a:solidFill>
                <a:latin typeface="Times New Roman"/>
              </a:rPr>
              <a:t>Objetivo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3141720"/>
            <a:ext cx="7772400" cy="18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CRIMINAR Y UTILIZAR ALGUNAS FORMAS O ESTRATEGIAS DE ESTUDIO DE LAS VARIABLES INTERVINIENTES EN E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CA81-D126-447B-BCF3-FA0653161B8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5"/>
          <p:cNvSpPr/>
          <p:nvPr/>
        </p:nvSpPr>
        <p:spPr>
          <a:xfrm>
            <a:off x="0" y="617220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Figura N° 6a:  Formas o Estrategias de estudio/análisis d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                </a:t>
            </a: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Interviniente en el Aprendizaje.  J. Anicama (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21"/>
          <p:cNvGraphicFramePr/>
          <p:nvPr/>
        </p:nvGraphicFramePr>
        <p:xfrm>
          <a:off x="914400" y="431640"/>
          <a:ext cx="7327800" cy="5499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31640"/>
                    <a:ext cx="7327800" cy="54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  <p:sndAc>
      <p:stSnd>
        <p:snd r:embed="rId3" name="ARPEGIO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A4DC-1F04-43C6-A773-3739AA9B3C7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0" y="617220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Figura N° 6b:  Formas o Estrategias de estudio/análisis de la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                </a:t>
            </a: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Interviniente en el Aprendizaje.  J. Anicama (200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Objeto 5" descr=""/>
          <p:cNvPicPr/>
          <p:nvPr/>
        </p:nvPicPr>
        <p:blipFill>
          <a:blip r:embed="rId1"/>
          <a:srcRect l="0" t="0" r="-64" b="-218"/>
          <a:stretch/>
        </p:blipFill>
        <p:spPr>
          <a:xfrm>
            <a:off x="214200" y="357120"/>
            <a:ext cx="8715600" cy="57866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CLIC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B258-F271-4EA5-BB44-7A14E0D572C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4240" y="14288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50021"/>
                </a:solidFill>
                <a:latin typeface="Times New Roman"/>
              </a:rPr>
              <a:t>Objetivo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3141720"/>
            <a:ext cx="828036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Times New Roman"/>
              </a:rPr>
              <a:t>DISCRIMINAR LOS PRINCIPIOS EPISTEMOLÓGICOS DE LA PSICOLOGÍA CIENTÍ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A14C-6A97-4AA8-A470-02AAF209B6B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280" y="620280"/>
            <a:ext cx="7848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1" lang="es-ES" sz="2800" spc="-1" strike="noStrike">
                <a:solidFill>
                  <a:srgbClr val="003300"/>
                </a:solidFill>
                <a:latin typeface="Verdana"/>
              </a:rPr>
              <a:t>1.1 </a:t>
            </a:r>
            <a:r>
              <a:rPr b="1" lang="es-ES" sz="3200" spc="-1" strike="noStrike">
                <a:solidFill>
                  <a:srgbClr val="993300"/>
                </a:solidFill>
                <a:latin typeface="Tahoma"/>
              </a:rPr>
              <a:t>Principios epistem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Verdana"/>
              </a:rPr>
              <a:t>   </a:t>
            </a: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Cuatro  supuestos  básicos  de  filosofía de  ciencia  (principios epistemológicos)  soportan   la  producción    de   conocimiento científi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0033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La obje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0033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La caus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0033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La verific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10000"/>
              </a:lnSpc>
              <a:spcBef>
                <a:spcPts val="349"/>
              </a:spcBef>
              <a:buClr>
                <a:srgbClr val="0033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Verdana"/>
              </a:rPr>
              <a:t>La  re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CE93-94FC-4680-B5AB-9DE35058E14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324000" y="981000"/>
            <a:ext cx="2305080" cy="115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Epistem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348000" y="981000"/>
            <a:ext cx="2305080" cy="115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iencia bá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227640" y="981000"/>
            <a:ext cx="2305080" cy="115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plicada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357720"/>
            <a:ext cx="1800360" cy="165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Obje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aus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Ver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Rep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3348000" y="3429000"/>
            <a:ext cx="2303640" cy="15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sicología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prendizaj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Hechos y concep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Leyes y princip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6372360" y="3429000"/>
            <a:ext cx="2160360" cy="15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ecnolog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duca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iseñ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istema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nseñ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2627280" y="1628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651640" y="162864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5724360" y="422100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2411280" y="414972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0" y="6156360"/>
            <a:ext cx="91440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Figura 1 :  Relaciones entre epistemología (filosofía de la cienc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    </a:t>
            </a: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ciencia básica y tecnología.  J. Anicama (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4DA5-EF67-40E1-A4E5-C05C3FACFB4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3300"/>
                </a:solidFill>
                <a:latin typeface="Times New Roman"/>
              </a:rPr>
              <a:t>Objetivo 2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3068280"/>
            <a:ext cx="7772400" cy="136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Times New Roman"/>
              </a:rPr>
              <a:t>DISCRIMINAR Y UTILIZAR UNA CONCEPCIÓN FÁCTICA O EMPÍRICA DE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7645-BB47-4D45-9EA3-BBF72FFC108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304920"/>
            <a:ext cx="1671480" cy="457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3300"/>
                </a:solidFill>
                <a:uFillTx/>
                <a:latin typeface="Times New Roman"/>
              </a:rPr>
              <a:t>TIEMPO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374920" y="304920"/>
            <a:ext cx="1900080" cy="453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3300"/>
                </a:solidFill>
                <a:uFillTx/>
                <a:latin typeface="Times New Roman"/>
              </a:rPr>
              <a:t>TIEMPO X +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749840" y="304920"/>
            <a:ext cx="1900080" cy="453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3300"/>
                </a:solidFill>
                <a:uFillTx/>
                <a:latin typeface="Times New Roman"/>
              </a:rPr>
              <a:t>TIEMPO X +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124760" y="304920"/>
            <a:ext cx="1900080" cy="453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3300"/>
                </a:solidFill>
                <a:uFillTx/>
                <a:latin typeface="Times New Roman"/>
              </a:rPr>
              <a:t>TIEMPO X +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1379520"/>
            <a:ext cx="1671480" cy="218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Rendimiento: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Evaluación de en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(antes del aprendizaj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374920" y="1379520"/>
            <a:ext cx="1900080" cy="63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Rendimiento: P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749840" y="1379520"/>
            <a:ext cx="1900080" cy="63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Rendimiento: P +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7124760" y="1379520"/>
            <a:ext cx="1900080" cy="20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Rendimiento: P +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Cambios en el comport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Control de aprendizaj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Evaluación de sal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087720" y="3016080"/>
            <a:ext cx="2849400" cy="5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3300"/>
                </a:solidFill>
                <a:latin typeface="Arial"/>
              </a:rPr>
              <a:t>Evaluación f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Proceso de aprendiza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949320" y="3925800"/>
            <a:ext cx="2257560" cy="178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Arreglo de condiciones del aprendiza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(Diseño instrucc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Variable In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7124760" y="5029200"/>
            <a:ext cx="1900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00"/>
                </a:solidFill>
                <a:latin typeface="Arial"/>
              </a:rPr>
              <a:t>Variable 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4"/>
          <p:cNvSpPr/>
          <p:nvPr/>
        </p:nvSpPr>
        <p:spPr>
          <a:xfrm flipV="1">
            <a:off x="2019240" y="1668600"/>
            <a:ext cx="0" cy="20923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2019240" y="4572000"/>
            <a:ext cx="0" cy="63648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 flipV="1">
            <a:off x="8077320" y="3429000"/>
            <a:ext cx="0" cy="137160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18"/>
          <p:cNvGraphicFramePr/>
          <p:nvPr/>
        </p:nvGraphicFramePr>
        <p:xfrm>
          <a:off x="0" y="6172200"/>
          <a:ext cx="9131400" cy="86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172200"/>
                    <a:ext cx="91314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Picture 19" descr=""/>
          <p:cNvPicPr/>
          <p:nvPr/>
        </p:nvPicPr>
        <p:blipFill>
          <a:blip r:embed="rId3"/>
          <a:stretch/>
        </p:blipFill>
        <p:spPr>
          <a:xfrm>
            <a:off x="3809880" y="3886200"/>
            <a:ext cx="146376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4" name="AVISO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6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0D0D-C547-42D5-8520-86ABCCCE16D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2060640"/>
            <a:ext cx="241128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Comportamiento al  año  2009  es entendido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16000" y="907560"/>
            <a:ext cx="6227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Comportamientos    abiertos,    públicos, observables   direc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Comportamientos privados, encubiertos, internos, no observables direc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Incluye un amplia variedad de procesos psicológicos que ocurre en el aprendizaje         o cuando un comportamiento tiene lug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Percepción selectiva              . Cre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Motivación                               . Inteligencias Múlti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Estilos de pensar                    . Actitu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Estrategias cognitivas           . Valores y cre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Estrategias metacognitivas   . Autoes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 Narrow"/>
              </a:rPr>
              <a:t>. Solución de Probl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5"/>
          <p:cNvSpPr/>
          <p:nvPr/>
        </p:nvSpPr>
        <p:spPr>
          <a:xfrm flipV="1">
            <a:off x="2268360" y="1196640"/>
            <a:ext cx="72108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6"/>
          <p:cNvSpPr/>
          <p:nvPr/>
        </p:nvSpPr>
        <p:spPr>
          <a:xfrm>
            <a:off x="2268360" y="2421000"/>
            <a:ext cx="7210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24000" y="6453360"/>
            <a:ext cx="856908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Arial Narrow"/>
              </a:rPr>
              <a:t>Figura N° 3: LA NATURALEZA DEL COMPORTAMIENTO. Anicama, J. (2009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5E2C-F663-4CB5-BE17-0D706C2B249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3300"/>
                </a:solidFill>
                <a:latin typeface="Times New Roman"/>
              </a:rPr>
              <a:t>Objetivo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3068640"/>
            <a:ext cx="8280360" cy="122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00"/>
                </a:solidFill>
                <a:latin typeface="Times New Roman"/>
              </a:rPr>
              <a:t>DISCRIMINAR Y UTILIZAR LOS MODELOS DE ESTUDIO DEL APRENDIZ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F693-536B-4F8F-B8F4-B424DF82782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91440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imes New Roman"/>
              </a:rPr>
              <a:t>1. Modelo E-R: El aprendizaje como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684360" y="2133720"/>
            <a:ext cx="7772400" cy="3047760"/>
            <a:chOff x="684360" y="2133720"/>
            <a:chExt cx="7772400" cy="3047760"/>
          </a:xfrm>
        </p:grpSpPr>
        <p:sp>
          <p:nvSpPr>
            <p:cNvPr id="103" name="Rectangle 4"/>
            <p:cNvSpPr/>
            <p:nvPr/>
          </p:nvSpPr>
          <p:spPr>
            <a:xfrm>
              <a:off x="684360" y="2133720"/>
              <a:ext cx="7772400" cy="30477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5"/>
            <p:cNvSpPr/>
            <p:nvPr/>
          </p:nvSpPr>
          <p:spPr>
            <a:xfrm>
              <a:off x="1735200" y="2742840"/>
              <a:ext cx="944640" cy="10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3300"/>
                  </a:solidFill>
                  <a:latin typeface="Times New Roman"/>
                </a:rPr>
                <a:t>E</a:t>
              </a:r>
              <a:r>
                <a:rPr b="1" lang="es-ES" sz="3200" spc="-1" strike="noStrike" baseline="-25000">
                  <a:solidFill>
                    <a:srgbClr val="0033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6"/>
            <p:cNvSpPr/>
            <p:nvPr/>
          </p:nvSpPr>
          <p:spPr>
            <a:xfrm>
              <a:off x="4149720" y="2742840"/>
              <a:ext cx="1155960" cy="10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3300"/>
                  </a:solidFill>
                  <a:latin typeface="Times New Roman"/>
                </a:rPr>
                <a:t>R</a:t>
              </a:r>
              <a:r>
                <a:rPr b="1" lang="es-ES" sz="3200" spc="-1" strike="noStrike" baseline="-25000">
                  <a:solidFill>
                    <a:srgbClr val="003300"/>
                  </a:solidFill>
                  <a:latin typeface="Times New Roman"/>
                </a:rPr>
                <a:t>P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6775560" y="2742840"/>
              <a:ext cx="946080" cy="101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3300"/>
                  </a:solidFill>
                  <a:latin typeface="Times New Roman"/>
                </a:rPr>
                <a:t>E</a:t>
              </a:r>
              <a:r>
                <a:rPr b="1" lang="es-ES" sz="3200" spc="-1" strike="noStrike" baseline="-25000">
                  <a:solidFill>
                    <a:srgbClr val="003300"/>
                  </a:solidFill>
                  <a:latin typeface="Times New Roman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2679840" y="3301920"/>
              <a:ext cx="136512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>
              <a:off x="5411880" y="3322440"/>
              <a:ext cx="13636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10"/>
            <p:cNvSpPr/>
            <p:nvPr/>
          </p:nvSpPr>
          <p:spPr>
            <a:xfrm>
              <a:off x="1000440" y="4038480"/>
              <a:ext cx="2728800" cy="941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00"/>
                  </a:solidFill>
                  <a:latin typeface="Tahoma"/>
                </a:rPr>
                <a:t>Estimulo anteced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00"/>
                  </a:solidFill>
                  <a:latin typeface="Tahoma"/>
                </a:rPr>
                <a:t>(experiencia educativ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11"/>
            <p:cNvSpPr/>
            <p:nvPr/>
          </p:nvSpPr>
          <p:spPr>
            <a:xfrm>
              <a:off x="5411880" y="4190760"/>
              <a:ext cx="2739960" cy="685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00"/>
                  </a:solidFill>
                  <a:latin typeface="Tahoma"/>
                </a:rPr>
                <a:t>Estimulo de recompen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rc 12"/>
            <p:cNvSpPr/>
            <p:nvPr/>
          </p:nvSpPr>
          <p:spPr>
            <a:xfrm flipH="1" flipV="1">
              <a:off x="5096880" y="3622320"/>
              <a:ext cx="1996920" cy="4204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13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Figura N° 4: Modelo de Estudio del Aprendizaje  E - R.  Concep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                      </a:t>
            </a:r>
            <a:r>
              <a:rPr b="1" lang="es-ES_tradnl" sz="2000" spc="-1" strike="noStrike">
                <a:solidFill>
                  <a:srgbClr val="993300"/>
                </a:solidFill>
                <a:latin typeface="Tahoma"/>
              </a:rPr>
              <a:t>Revisado por J. Anicama (20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  <p:sndAc>
      <p:stSnd>
        <p:snd r:embed="rId1" name="DIAP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16:21:08Z</dcterms:created>
  <dc:creator>softime</dc:creator>
  <dc:description/>
  <dc:language>en-US</dc:language>
  <cp:lastModifiedBy>PC</cp:lastModifiedBy>
  <dcterms:modified xsi:type="dcterms:W3CDTF">2009-04-24T14:37:43Z</dcterms:modified>
  <cp:revision>63</cp:revision>
  <dc:subject/>
  <dc:title>Sin título de diapositiva</dc:title>
</cp:coreProperties>
</file>